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DA72-4EA5-4930-8E78-226D9DA2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2B6B-AD1C-4180-8E21-78541771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621-6987-4EC2-8911-D9173AB6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1ED-5D17-41BC-A29F-39F097F0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17E-EA6B-4E9F-9DE4-41DA4FC7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33F-5C95-441B-80F1-2270BC3E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656-2D31-4906-9383-2B92B3ED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C98-5E92-4DB3-9CCB-D6C34BEE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D19-6B6C-4123-88F4-2169AFB3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2F35-9A14-4F92-8A3D-C0065CB4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831-DDEA-4E85-B1F0-83277AAE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D99-6477-4312-98F9-A28C8C10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B1D1-2BFB-4713-A18F-41BB13436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481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M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V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chwe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Bru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och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Soh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O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Grossmu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Grossv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Enk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i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7481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Kus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Cou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T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Onk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Fra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Ma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K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Mäd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 Ju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4:23:56Z</dcterms:created>
  <dc:creator>udsd</dc:creator>
  <dc:description/>
  <dc:language>en-US</dc:language>
  <cp:lastModifiedBy>udsd</cp:lastModifiedBy>
  <dcterms:modified xsi:type="dcterms:W3CDTF">2009-02-24T19:15:11Z</dcterms:modified>
  <cp:revision>2</cp:revision>
  <dc:subject/>
  <dc:title>Slide 1</dc:title>
</cp:coreProperties>
</file>